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B75C-08A0-49F4-AFE1-C8194E87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E02D-E2C6-4012-87CF-FDF28A66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E977-2B7C-4EAE-A3AA-C6520EF5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4C69-24D0-4B1E-A924-870DD9B8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B744-339F-4131-836B-D619EBF3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CEFA-9E46-40A3-B043-FD547F02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FD72-859E-4CE2-973E-E5B1C2A1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CE82-C640-42C3-B89B-CC49D3DD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5743-7369-4CAC-95EF-5F39EFCB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AC7A-49E1-47ED-8D15-8F829225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74EF-9D98-401F-AA12-BECBD415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DCED-02FE-44E3-A812-783AED65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234A-9CA8-4584-8855-5EBDEB7C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C4CD-2FCA-4485-9C57-5D4033E7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36B4-04FB-4B49-BB9A-D5EBD63D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2C0A-8E2D-4171-9B4F-C9166ED0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359E-BAD2-46B4-9B88-05BB221C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A451-C655-495B-8AD0-C575C1A0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488F-B9EF-4CC8-938B-D214556D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2286-5A99-4956-BE5D-BE96DF7F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5110-8289-409B-A21C-E0DDCA04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3AD4-6EC6-454F-9F5E-8D7D734D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0B84-D353-4F3F-B619-18406A15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165E-E0D1-4D09-ABC8-03600433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F3E5-46A3-4CF2-8622-9A65248375C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CFF2-A261-47FF-AA4A-08293FE285E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alley View Middle Scho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ASA Endeavou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adiation Experiment Resul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 order to learn more about electromagnetic radiation, we participated in a series of experiments using all different types of radiation and materials. The results are listed on the next few pag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isible Ligh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380880" y="1371600"/>
          <a:ext cx="8229600" cy="41068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480"/>
                <a:gridCol w="1174680"/>
                <a:gridCol w="1176480"/>
                <a:gridCol w="1174680"/>
                <a:gridCol w="1176120"/>
              </a:tblGrid>
              <a:tr h="102564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ypes of Paper 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Clear Plastic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Black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lastic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Alum.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oil 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aper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elt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lastic Bag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Mylar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02564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sults of Radiation Experimen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=Transmitter S=Shield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ltraviole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685800" y="1981080"/>
          <a:ext cx="7772400" cy="4114440"/>
        </p:xfrm>
        <a:graphic>
          <a:graphicData uri="http://schemas.openxmlformats.org/drawingml/2006/table">
            <a:tbl>
              <a:tblPr/>
              <a:tblGrid>
                <a:gridCol w="1110960"/>
                <a:gridCol w="1109520"/>
                <a:gridCol w="1110960"/>
                <a:gridCol w="1109520"/>
                <a:gridCol w="1110960"/>
                <a:gridCol w="1109520"/>
                <a:gridCol w="1110960"/>
              </a:tblGrid>
              <a:tr h="102744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ypes of Paper 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Clear Plastic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Black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lastic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Alum.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oil 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aper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elt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lastic Bag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Mylar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02744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sults of Radiation Experimen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=Transmitter S=Shield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frar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685800" y="1981080"/>
          <a:ext cx="7772400" cy="4114440"/>
        </p:xfrm>
        <a:graphic>
          <a:graphicData uri="http://schemas.openxmlformats.org/drawingml/2006/table">
            <a:tbl>
              <a:tblPr/>
              <a:tblGrid>
                <a:gridCol w="1110960"/>
                <a:gridCol w="1109520"/>
                <a:gridCol w="1110960"/>
                <a:gridCol w="1109520"/>
                <a:gridCol w="1110960"/>
                <a:gridCol w="1109520"/>
                <a:gridCol w="1110960"/>
              </a:tblGrid>
              <a:tr h="102744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ypes of Paper 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Clear Plastic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Black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lastic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Alum.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oil 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aper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elt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lastic Bag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Mylar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02744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sults of Radiation Experimen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=Transmitter S=Shield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adi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685800" y="1981080"/>
          <a:ext cx="7772400" cy="4114440"/>
        </p:xfrm>
        <a:graphic>
          <a:graphicData uri="http://schemas.openxmlformats.org/drawingml/2006/table">
            <a:tbl>
              <a:tblPr/>
              <a:tblGrid>
                <a:gridCol w="1110960"/>
                <a:gridCol w="1109520"/>
                <a:gridCol w="1110960"/>
                <a:gridCol w="1109520"/>
                <a:gridCol w="1110960"/>
                <a:gridCol w="1109520"/>
                <a:gridCol w="1110960"/>
              </a:tblGrid>
              <a:tr h="102744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ypes of Paper 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Clear Plastic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Black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lastic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Alum.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oil 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aper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elt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lastic Bag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Mylar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02744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sults of Radiation Experimen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=Transmitter S=Shield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 conclusion, we learned that there are a lot of different types of electromagnetic radiation. Some radiation waves are more powerful than others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experiment was both fun and educationa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6:36:43Z</dcterms:created>
  <dc:creator>vv</dc:creator>
  <dc:description/>
  <dc:language>en-US</dc:language>
  <cp:lastModifiedBy>vv</cp:lastModifiedBy>
  <dcterms:modified xsi:type="dcterms:W3CDTF">2009-11-13T07:11:20Z</dcterms:modified>
  <cp:revision>2</cp:revision>
  <dc:subject/>
  <dc:title>Valley View Middle School</dc:title>
</cp:coreProperties>
</file>